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6D8-61F8-49EE-8203-190626FA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31F-E1BE-43B7-A183-D9677846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C48-C507-48E2-95AA-C6192421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03F-EFD3-4821-AC39-BA162772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91D5-E953-44DE-AF1C-A4A5267E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3303-568E-42EC-9F32-FCA7E27E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54BC-6B6B-49DA-BF1D-626E17BE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4C82-9AC9-46E7-8D6D-89B7C092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4429-91BA-41DF-83D5-54F28CC8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D90E-9598-40EE-8F02-4709A84E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0ADB-008D-405F-995B-454D6CD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BCD-DACA-4156-BB34-BD8DF400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4944-6553-4B89-A048-8EA6AD27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B8CA-F398-4D4D-863B-612E77B5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ABF3-8467-42A6-BA2E-63EABBF8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D5FA-DE7E-4CCB-8D12-5ADDCCAD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38A2-2C61-4D85-88CC-4490C23B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350-A594-46F9-A166-429DC8BE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E3B-CF36-4316-94F4-AE4AE765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3D2-0FB4-444F-8EDD-F4ABE8BE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213-EDF2-4E09-91F7-2ED154AD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DFC-8A01-4DD3-A110-5FF33BEF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60A-F625-416A-A477-5AE6493E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43F-B6CF-4AB2-B07E-30FB0AE0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ACCD-A274-41B4-9F57-BFDDAB917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IMAGES\EDUCTION\SUPPLIES\AWQ50001.TIF"/>
          <p:cNvPicPr/>
          <p:nvPr/>
        </p:nvPicPr>
        <p:blipFill>
          <a:blip r:embed="rId3"/>
          <a:stretch/>
        </p:blipFill>
        <p:spPr>
          <a:xfrm>
            <a:off x="4114800" y="3106800"/>
            <a:ext cx="5029200" cy="375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F15F-2FA4-4081-B2CD-281D5CB2D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elcome Back to WH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240" y="36572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Days 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ROOM MAINTENANCE AND CARE PROC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not have any food or drink at any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we are in a multi-million dollar facility we need to treat as such.  Students must pick up any trash in their area and throw it away before they le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OUR GO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day we are going to establish classroom procedures and policies for my clas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PROCEDURES and RUL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look out our sylla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UNCH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re going to be allowed to walk casually to the lunchroom and seat where ever they like as long as they have their trust p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not behave, can not clean their area, or do not have their trust pass will not have the privilege of sitting where they would lik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SITOR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22860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we have a guest ( that is anybody that is not a student in our classroom)  we will always be on our best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managers will introduce them to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act goo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 as if they are not there. Do not speak to the visitor unless you are spoken to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 am speaking with them, do not inter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ASUAL FRIDA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2285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Friday you will be allowed to dress ca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lue Jean Pa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holes, and minimum writing on 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i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Teeshirt ( Unless it is a school/ organ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graphics/ pi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t be tu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lt Buck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bigger than driver’s lic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 Flip fl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T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be using the Trust 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one student at a time may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sign out and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not leave while teacher is le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tudent has had Trust Pass taken up they will not be allowed to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SAFETY/ELECTRONICS PROCEDR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turn computers off!  Computers will be turned off by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iod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come into class and begin with their bell ringer.  This is the time to get pencils sharpened and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not leave class until I have officially dismissed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LASSROOM MANAG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week we will select a classroom manager to ensure that all students are logged off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lassroom manager will also be the only student that will be allowed to introduce themselves to any visitors or guests that we h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that all trash has been pick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6:37:56Z</dcterms:created>
  <dc:creator>pjenkins</dc:creator>
  <dc:description/>
  <dc:language>en-US</dc:language>
  <cp:lastModifiedBy>ls3student</cp:lastModifiedBy>
  <dcterms:modified xsi:type="dcterms:W3CDTF">2009-08-07T18:10:39Z</dcterms:modified>
  <cp:revision>9</cp:revision>
  <dc:subject/>
  <dc:title>Welcome Back to WHS</dc:title>
</cp:coreProperties>
</file>