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7EE-0295-498D-9918-15AEE5AF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5D1-022C-4258-918F-84BAAE2E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250-E6A3-46D7-A3E2-84ADE168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10A-F17B-4395-8C27-3E7F41DA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1295-84DE-474F-815E-DCCFD5C3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948B-6348-465B-9CFF-1DEDF101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20B7-7A32-4E17-BBD8-F365D9F1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CEAC-3186-4789-B436-A19286A6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08C4-0588-442B-BE89-FD2E3556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0570-408D-46F1-8E8B-32F323F7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A9D5-33EB-4043-AA0A-8E4E6C75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93D-48AC-4948-B5E6-DBF5EF48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46BC-7923-4B05-9FBA-EE8BD8F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F5C8-8E3F-42B1-9562-D2625D16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847C-54F1-4D1D-B746-7FB6FD58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0654-404B-4B7A-AC00-AADC9EA2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E637-C800-4309-A767-11CB876E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EBB-5A97-463D-A79E-AB02178E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FA7-40B4-4F23-B4EE-98B9CA36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B77-2B7E-4D1D-BAF3-397F8F3E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DBF-EFCC-4993-8655-ABDC86B8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F3F-43EE-4050-894C-1CD08C4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1E3-1AC4-42C2-A2D3-34BF780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483-AF16-4EB0-8D71-0845B9DB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8964-A8A3-4E13-AC44-85BAC09E7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IMAGES\EDUCTION\SUPPLIES\AWQ50001.TIF"/>
          <p:cNvPicPr/>
          <p:nvPr/>
        </p:nvPicPr>
        <p:blipFill>
          <a:blip r:embed="rId3"/>
          <a:stretch/>
        </p:blipFill>
        <p:spPr>
          <a:xfrm>
            <a:off x="4114800" y="3106800"/>
            <a:ext cx="5029200" cy="375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A176-0A0F-4099-9095-18D5452BE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elcome Back to WH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Days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ROOM MAINTENANCE AND CARE PROC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not have any food or drink at any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we are in a multi-million dollar facility we need to treat as such.  Students must pick up any trash in their area and throw it away before they le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OUR GO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day we are going to establish classroom procedures and policies for my clas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PROCEDURES and RUL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look out our sylla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UNCH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going to be allowed to walk casually to the lunchroom and seat where ever they like as long as they have their trust p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not behave, can not clean their area, or do not have their trust pass will not have the privilege of sitting where they would lik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SITOR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22860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we have a guest ( that is anybody that is not a student in our classroom)  we will always be on our best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managers will introduce them to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act goo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 as if they are not there. Do not speak to the visitor unless you are spoken to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 am speaking with them, do not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SUAL FRIDA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Friday you will be allowed to dress ca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lue Jean Pa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holes, and minimum writing on 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i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Teeshirt ( Unless it is a school/ organ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graphics/ pi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t be tu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lt Buck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bigger than driver’s lic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 Flip fl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T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be using the Trust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one student at a time may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sign out and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not leave while teacher is le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tudent has had Trust Pass taken up they will not be allowed to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SAFETY/ELECTRONICS PROCEDR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turn computers off!  Computers will be turned off by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od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come into class and begin with their bell ringer.  This is the time to get pencils sharpened and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not leave class until I have officially dismissed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LASSROOM MANAG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eek we will select a classroom manager to ensure that all students are logged off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assroom manager will also be the only student that will be allowed to introduce themselves to any visitors or guests that we h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at all trash has been pick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6:37:56Z</dcterms:created>
  <dc:creator>pjenkins</dc:creator>
  <dc:description/>
  <dc:language>en-US</dc:language>
  <cp:lastModifiedBy>ls3student</cp:lastModifiedBy>
  <dcterms:modified xsi:type="dcterms:W3CDTF">2009-08-07T18:10:39Z</dcterms:modified>
  <cp:revision>9</cp:revision>
  <dc:subject/>
  <dc:title>Welcome Back to WHS</dc:title>
</cp:coreProperties>
</file>