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1EF-F9D9-4019-B4A7-64FBA7E2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E6B-E94A-46B2-B31E-B9506162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45B-21B5-464E-9423-9653F17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CF3-090B-485C-9A2A-791E94CC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BDD8-A616-49F4-A523-7344FEE3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4A4C-5EC6-4CA4-961B-95F428E5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BC06-6766-4F7F-A4C7-F320F69B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A397-15C2-4BA8-8F1E-5BC70DE3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83E6-1382-44A0-99B4-DBFD232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8A9C-6351-468F-B918-E1A95F3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B34-C1B4-4D14-969B-0D10098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849-929B-4615-9BC7-AAA19B6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2145-BB2F-4A9C-8AB2-82770FC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A1D3-FD05-4B50-B679-04DB061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165B-E701-4E3C-B211-3835AE7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9F19-5FD0-4512-9098-ABAC1365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467D-8AA6-428E-A8FA-88860BE8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FB7-7381-4EFE-9152-0087A2AE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C0B-64FA-401D-8E1C-E0738498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E6B-1D9F-46CE-B7CB-1374091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DA0-ABC4-41D1-B101-B0480B34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FCD-47B3-4FC6-83F3-4947C441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B42-C54E-4C63-B85E-7F27283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83B-C309-4487-89FC-E9CADE38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07B8-E92E-4749-8230-68D4B5441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IMAGES\EDUCTION\SUPPLIES\AWQ50001.TIF"/>
          <p:cNvPicPr/>
          <p:nvPr/>
        </p:nvPicPr>
        <p:blipFill>
          <a:blip r:embed="rId3"/>
          <a:stretch/>
        </p:blipFill>
        <p:spPr>
          <a:xfrm>
            <a:off x="4114800" y="3106800"/>
            <a:ext cx="5029200" cy="375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860A-A2BD-44E0-A14F-C661B1B9B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elcome Back to WH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Days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ROOM MAINTENANCE AND CARE PROC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not have any food or drink at any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we are in a multi-million dollar facility we need to treat as such.  Students must pick up any trash in their area and throw it away before they le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OUR GO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day we are going to establish classroom procedures and policies for my cla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PROCEDURES and RUL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look out our sylla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UNCH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going to be allowed to walk casually to the lunchroom and seat where ever they like as long as they have their trust p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not behave, can not clean their area, or do not have their trust pass will not have the privilege of sitting where they would lik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SITOR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22860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e have a guest ( that is anybody that is not a student in our classroom)  we will always be on our best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anagers will introduce them to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act goo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 as if they are not there. Do not speak to the visitor unless you are spoken to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 am speaking with them, do not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SUAL FRID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Friday you will be allowed to dress ca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lue Jean Pa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holes, and minimum writing on 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i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Teeshirt ( Unless it is a school/ organ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graphics/ pi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t be tu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lt Buck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bigger than driver’s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 Flip f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T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be using the Trust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one student at a time may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sign out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not leave while teacher is le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tudent has had Trust Pass taken up they will not be allowed to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SAFETY/ELECTRONICS PROCEDR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urn computers off!  Computers will be turned off by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od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come into class and begin with their bell ringer.  This is the time to get pencils sharpened and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not leave class until I have officially dismissed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LASSROOM MANAG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eek we will select a classroom manager to ensure that all students are logged off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assroom manager will also be the only student that will be allowed to introduce themselves to any visitors or guests that we h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at all trash has been pick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6:37:56Z</dcterms:created>
  <dc:creator>pjenkins</dc:creator>
  <dc:description/>
  <dc:language>en-US</dc:language>
  <cp:lastModifiedBy>ls3student</cp:lastModifiedBy>
  <dcterms:modified xsi:type="dcterms:W3CDTF">2009-08-07T18:10:39Z</dcterms:modified>
  <cp:revision>9</cp:revision>
  <dc:subject/>
  <dc:title>Welcome Back to WHS</dc:title>
</cp:coreProperties>
</file>