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40E-1C87-440B-B886-1F54608C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DD2-416C-479E-8F97-A02F9F43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7BE-7638-4E91-B803-BEEC0D04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14C-5F25-490C-9B45-4451F8DF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BF6A-220A-4EF5-B097-349CB21A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E8D7-8328-4C7F-ABC9-099F8235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30A9-5CCF-4065-8C48-91001170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9E4C-1EE0-4B01-AD33-0D43DC9F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D9FA-0131-4CEF-856C-4A9F887E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A721-0096-438F-90F2-64FAEF5B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2C86-C05D-4F05-92D0-6CD1162F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54D-02C1-4189-89C2-8EAAA89E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9EFC-1956-48DC-9B85-54238465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B12D-B709-4B1B-8059-93608DDF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16DB-A427-4528-99F3-54BFE474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1E6F-0DDF-42B8-A855-E14C7B6C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0750-DBBC-41CA-AEA1-BD68A12B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D9B-1725-41F0-BEE9-322F4301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2AF-DDF0-4AB3-A956-2DD50ACF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288-C7EB-46DC-BD71-D8833FAF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4E6-3FB8-49AE-87E0-203A015D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EDD-26CA-490A-9AB3-7D194D7F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F55-4720-4E99-BAEF-A6ABF72B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470-9CC4-4901-ACAE-87F4CD71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9F06-D0D1-4D39-817A-4D5E430BE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IMAGES\EDUCTION\SUPPLIES\AWQ50001.TIF"/>
          <p:cNvPicPr/>
          <p:nvPr/>
        </p:nvPicPr>
        <p:blipFill>
          <a:blip r:embed="rId3"/>
          <a:stretch/>
        </p:blipFill>
        <p:spPr>
          <a:xfrm>
            <a:off x="4114800" y="3106800"/>
            <a:ext cx="5029200" cy="375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4534-9058-40F6-BB18-4601A3B18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elcome Back to WH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240" y="36572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Days 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ROOM MAINTENANCE AND CARE PROC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not have any food or drink at any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we are in a multi-million dollar facility we need to treat as such.  Students must pick up any trash in their area and throw it away before they le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OUR GO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day we are going to establish classroom procedures and policies for my clas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PROCEDURES and RUL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look out our sylla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UNCH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re going to be allowed to walk casually to the lunchroom and seat where ever they like as long as they have their trust p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not behave, can not clean their area, or do not have their trust pass will not have the privilege of sitting where they would lik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SITOR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22860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we have a guest ( that is anybody that is not a student in our classroom)  we will always be on our best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managers will introduce them to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act goo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 as if they are not there. Do not speak to the visitor unless you are spoken to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 am speaking with them, do not inter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ASUAL FRIDA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2285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Friday you will be allowed to dress ca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lue Jean Pa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holes, and minimum writing on 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i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Teeshirt ( Unless it is a school/ organ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graphics/ pi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t be tu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lt Buck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bigger than driver’s lic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 Flip fl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T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be using the Trust 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one student at a time may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sign out and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not leave while teacher is le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tudent has had Trust Pass taken up they will not be allowed to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SAFETY/ELECTRONICS PROCEDR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turn computers off!  Computers will be turned off by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iod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come into class and begin with their bell ringer.  This is the time to get pencils sharpened and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not leave class until I have officially dismissed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LASSROOM MANAG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week we will select a classroom manager to ensure that all students are logged off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lassroom manager will also be the only student that will be allowed to introduce themselves to any visitors or guests that we h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that all trash has been pick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6:37:56Z</dcterms:created>
  <dc:creator>pjenkins</dc:creator>
  <dc:description/>
  <dc:language>en-US</dc:language>
  <cp:lastModifiedBy>ls3student</cp:lastModifiedBy>
  <dcterms:modified xsi:type="dcterms:W3CDTF">2009-08-07T18:10:39Z</dcterms:modified>
  <cp:revision>9</cp:revision>
  <dc:subject/>
  <dc:title>Welcome Back to WHS</dc:title>
</cp:coreProperties>
</file>