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4F1-A794-4E48-ADE7-505736F4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D09-EBB2-4726-9541-A86F78EB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234-46EC-4D50-9F78-E7CC697C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53D-CF88-494F-B3D8-37D44FDF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08B4-1269-4891-9949-E1D06E5A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8D7A-9306-40B8-8096-0E3648B5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D36E-C3C6-4DDA-A799-0B936CD8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C96A-8DBA-4E6F-9F13-4DD92902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B39C-9AB4-41E6-8760-07BAE8F7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1B2E-F28F-4DD1-BC1E-8B99DC90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CB95-DFDC-4B61-A270-795E5FD3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134-15E6-44B7-BDA3-0E0F858F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ADC8-EA9B-42E7-97F9-EC354B6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EBBE-7139-471D-88B4-F4E7DE1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9F1F-1D33-4089-A1D1-20B85333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4FBD-49EF-44A9-85D3-F0BA7AE2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228564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276080"/>
            <a:ext cx="27478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BDC1-7E30-41F8-91E4-B7AC6DFE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881-ABE9-44A4-9E7D-FF824676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B87-06E5-4DAA-B0CD-34CE39DC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255-0870-447F-8EB0-FA724F36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1800" y="228240"/>
            <a:ext cx="5943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5FB-AFB0-45F0-A0BD-BF8CD52F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205-3842-47C5-85CC-908DB800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27608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BB2-C03D-4CA7-87D7-498760E8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2285640"/>
            <a:ext cx="416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76080"/>
            <a:ext cx="8534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C14-4532-443D-B9E9-958CACC6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9AFF-F82A-4D12-B5FD-7D2F2146A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E:\IMAGES\EDUCTION\SUPPLIES\AWQ50001.TIF"/>
          <p:cNvPicPr/>
          <p:nvPr/>
        </p:nvPicPr>
        <p:blipFill>
          <a:blip r:embed="rId2"/>
          <a:stretch/>
        </p:blipFill>
        <p:spPr>
          <a:xfrm>
            <a:off x="0" y="0"/>
            <a:ext cx="2743200" cy="204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IMAGES\EDUCTION\SUPPLIES\AWQ50001.TIF"/>
          <p:cNvPicPr/>
          <p:nvPr/>
        </p:nvPicPr>
        <p:blipFill>
          <a:blip r:embed="rId3"/>
          <a:stretch/>
        </p:blipFill>
        <p:spPr>
          <a:xfrm>
            <a:off x="4114800" y="3106800"/>
            <a:ext cx="5029200" cy="3751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BB31-ADA8-410A-BEA5-3618FC5C7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Welcome Back to WH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240" y="36572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Days 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ROOM MAINTENANCE AND CARE PROC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not have any food or drink at any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we are in a multi-million dollar facility we need to treat as such.  Students must pick up any trash in their area and throw it away before they le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OUR GO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day we are going to establish classroom procedures and policies for my clas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PROCEDURES and RUL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look out our sylla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UNCH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re going to be allowed to walk casually to the lunchroom and seat where ever they like as long as they have their trust pa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can not behave, can not clean their area, or do not have their trust pass will not have the privilege of sitting where they would lik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SITOR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22860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we have a guest ( that is anybody that is not a student in our classroom)  we will always be on our best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managers will introduce them to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act goo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 as if they are not there. Do not speak to the visitor unless you are spoken to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 am speaking with them, do not inter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ASUAL FRIDA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2285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Friday you will be allowed to dress ca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lue Jean Pa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holes, and minimum writing on 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i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Teeshirt ( Unless it is a school/ organ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graphics/ pi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t be tu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lt Buck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bigger than driver’s lic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  Flip fl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TROOM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be using the Trust 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one student at a time may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sign out and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not leave while teacher is le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tudent has had Trust Pass taken up they will not be allowed to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SROOM SAFETY/ELECTRONICS PROCEDR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turn computers off!  Computers will be turned off by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iod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come into class and begin with their bell ringer.  This is the time to get pencils sharpened and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will not leave class until I have officially dismissed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LASSROOM MANAG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week we will select a classroom manager to ensure that all students are logged off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lassroom manager will also be the only student that will be allowed to introduce themselves to any visitors or guests that we ha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that all trash has been pick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6:37:56Z</dcterms:created>
  <dc:creator>pjenkins</dc:creator>
  <dc:description/>
  <dc:language>en-US</dc:language>
  <cp:lastModifiedBy>ls3student</cp:lastModifiedBy>
  <dcterms:modified xsi:type="dcterms:W3CDTF">2009-08-07T18:10:39Z</dcterms:modified>
  <cp:revision>9</cp:revision>
  <dc:subject/>
  <dc:title>Welcome Back to WHS</dc:title>
</cp:coreProperties>
</file>