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5A3-21A5-4CB6-BD31-A71A70F9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257-2C59-49C1-9AB8-E35D7365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341-5305-4708-8A54-AE750F35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293-A26E-400B-B708-DC932161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0303-DCB8-449F-9541-77C3C1BD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FF6D-4D69-4FE8-9F67-755BAD18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E6DB-0EB9-4828-9F5A-B91D1F28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C5ED-7DC3-4DCE-B444-C0DFF977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AAA-9503-4E78-A334-200A3D35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D5FA-1C00-42A3-BD6E-BDE0AEAF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59CA-9A2A-45B4-BE21-34723315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D41-0B0F-4657-9364-8BA7666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BF51-2506-4823-B0E8-2701041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C2E4-C892-42F2-B07E-08C6D500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B6B1-5E21-409B-8CD2-D2E20D5D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F415-473F-462B-80C2-F738DA84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AC47-80DC-4CD8-B26F-C87A12AB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E53-D8A7-4FDD-9CEC-9C41B5A3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C82-9EC4-4872-B29A-CB9CB391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F16-DBB6-4FFA-8496-67E7C159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3FD-7BD0-44CC-9EC4-A41C2E57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72E-2244-4F7E-B865-76D8A1CA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5E3-320E-4A75-AFB7-7915D21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4E4-96F3-4022-A798-4F0DAAB7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0AEA-ADF5-47B7-AA3E-7ED65084D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IMAGES\EDUCTION\SUPPLIES\AWQ50001.TIF"/>
          <p:cNvPicPr/>
          <p:nvPr/>
        </p:nvPicPr>
        <p:blipFill>
          <a:blip r:embed="rId3"/>
          <a:stretch/>
        </p:blipFill>
        <p:spPr>
          <a:xfrm>
            <a:off x="4114800" y="3106800"/>
            <a:ext cx="5029200" cy="375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86A9-E855-4D34-86BD-8B4125737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elcome Back to WH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Days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ROOM MAINTENANCE AND CARE PROC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not have any food or drink at any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we are in a multi-million dollar facility we need to treat as such.  Students must pick up any trash in their area and throw it away before they le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OUR GO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day we are going to establish classroom procedures and policies for my clas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PROCEDURES and RUL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look out our sylla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UNCH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going to be allowed to walk casually to the lunchroom and seat where ever they like as long as they have their trust p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not behave, can not clean their area, or do not have their trust pass will not have the privilege of sitting where they would lik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SITOR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22860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we have a guest ( that is anybody that is not a student in our classroom)  we will always be on our best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managers will introduce them to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act goo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 as if they are not there. Do not speak to the visitor unless you are spoken to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 am speaking with them, do not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SUAL FRIDA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Friday you will be allowed to dress ca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lue Jean Pa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holes, and minimum writing on 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i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Teeshirt ( Unless it is a school/ organ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graphics/ pi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t be tu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lt Buck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bigger than driver’s lic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 Flip fl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T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be using the Trust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one student at a time may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sign out and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not leave while teacher is le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tudent has had Trust Pass taken up they will not be allowed to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SAFETY/ELECTRONICS PROCEDR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turn computers off!  Computers will be turned off by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od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come into class and begin with their bell ringer.  This is the time to get pencils sharpened and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not leave class until I have officially dismissed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LASSROOM MANAG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eek we will select a classroom manager to ensure that all students are logged off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assroom manager will also be the only student that will be allowed to introduce themselves to any visitors or guests that we h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at all trash has been pick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6:37:56Z</dcterms:created>
  <dc:creator>pjenkins</dc:creator>
  <dc:description/>
  <dc:language>en-US</dc:language>
  <cp:lastModifiedBy>ls3student</cp:lastModifiedBy>
  <dcterms:modified xsi:type="dcterms:W3CDTF">2009-08-07T18:10:39Z</dcterms:modified>
  <cp:revision>9</cp:revision>
  <dc:subject/>
  <dc:title>Welcome Back to WHS</dc:title>
</cp:coreProperties>
</file>